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CDED-6B2D-473F-8ACF-F5FF018A0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325C-739C-48F8-A535-416B3D03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3D3D4-62F6-4951-9965-DCB631EA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F173C-E11C-4A1D-9EA0-3B371941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D2007-1479-4FF3-A9CA-EF0FFF17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E2722-A250-401F-BAA3-C51E0F6A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6805D-C4C7-4827-8E87-987E9021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8A5CD-FB39-4897-939E-D31DBE53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F380C-CBCD-483B-8F46-D168A285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08F66-2928-47A1-A4D1-16DE21AAE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EE280-845A-44CC-865D-3FA1A7061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33176-5BC3-4D5C-A4EA-992B4F954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4496-E7ED-42D3-895B-8A504383C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51E78A-08E3-4483-A27E-0F914D4B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06BBBA-102E-4EF3-BF65-4146FFD3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049E14-429C-4B2A-B337-F8E5404F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7034F-D069-410B-9B50-62DCFA1F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72B138-75B9-481B-AF81-4719197B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ECF088-A5DA-4083-8FE2-1927CE01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D24EA3-F530-4366-9CD3-D638D568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2EA6A-85E5-4ED6-8ED9-7EFEA4A5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CF7940-B2FC-43AB-9A90-054201BF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89B1E8-235E-4D62-BEEC-AA2A98205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E0F1-AD2D-4239-8F83-4096571B7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EBC706-ABDB-41EB-A604-14A8E8CDD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DE5F0-0E9D-4EAA-9A5B-1F4B2FEB3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02AD0-879C-4AFB-9A9C-D658E183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D15D8-F705-45F2-A706-80467851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DFAC3-40A2-4B49-97A6-837D9A94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5FFD0-30F2-4918-AE60-89EDD68D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65705-F56B-4F22-99A6-1E69C3D2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C1663-B60E-4674-BAA0-7218DDD4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05295-30A2-4F69-938F-4F7EEBDF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7F5F0-72AB-492C-BA65-50207376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BF73-3158-4ED9-890F-9D51F903C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F71DB-8FF8-4F2C-9D4B-83F016EC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EEB5C-762D-46AA-AC82-BFCA1CD83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45AD3-B869-44BD-923E-EAB01722C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2B6F76-A4D4-4661-831E-1ADB460F9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0EFE34-7F11-49B9-8F0C-05C44231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939F14-128A-483C-85CF-E6B37095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DECDA5-EE30-45FE-B9BD-75916136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5AD47F-8AEB-4633-A841-D99A0DD5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351B6A-A0CE-4CE5-88CF-E7DB73AB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045AB-5AAC-4C9A-9567-FD4E46F0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2A50-D1CA-43A1-BC2C-4F6879A0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7FEF87-C804-4822-8C5C-C9017412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A3625A-C077-4AE7-8070-3754A309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F92A5D-32CC-463B-87D4-A7ABBB66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90C371-3A19-4028-ADDE-58C1B4797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3B67DB-6924-43E3-8411-561EFBC82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3CA35B-61C3-4020-B9E3-BD956C4B5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D4AAE4-E96A-4653-B1D0-9E2A302D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93A321-4D5E-49B7-9EB1-2E982F27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B98186-8671-4C07-A31A-D4CA4ED8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1077F7-7D14-4C66-B27E-3A5FA0D6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D4E0-1DEE-49A4-B67F-1A6BA78A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2324C0-5AB3-4633-9EE1-E067429C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925431-51D1-4EFB-9CD8-D0618445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194B7D-6398-451C-8C3A-11154B0B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CC16F8-76EE-4C4D-B008-A52B0AB9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DC02C2-985F-4C63-98EB-EAA624F2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19459A-4C92-479F-92D0-3126BEBF9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B3C9B4-691D-46DE-9368-BFD3C39E2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4A4A6A-A746-4C29-B35B-42FA66CCA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6170C1-6EF0-4CDD-B374-EFB1C394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D5E8E8-4E17-4537-BC48-F54B6E21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8A10-2156-46F1-97A9-12D5F815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3AF38E-3646-4B4E-8A82-0CB68853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118201-A54F-47A3-AF96-28954B6C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24C222-C4F8-47BC-B62A-504B9F46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808E17-54E0-419C-BDCE-9776C7C8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D72444-267B-4A47-B198-040BE640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D3495E-C2C1-4679-8762-02023BC0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646B32-D157-4620-858B-5FB017A7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5DE395-1B42-4903-9C49-C14D508D4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799BA9-14C1-40EE-9BFB-DF84EA19B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1C0085-797E-4777-8A85-D57FA2E41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9FB6-6038-4EAD-96EB-2949AF0E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A0EA82-E2A8-40B0-94E9-F11EBDF4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B44657-1CB3-463F-843C-FA0935AF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86115A-5B7E-4892-A3E2-71F8E0EA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A7BAFD-DBF5-4A48-9500-F6301E3A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394C41-9F76-4FE4-ACE6-88913F93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38248D-FC7B-4F27-B353-B4305505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000370-D158-42C6-968F-A4422BEB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901F9E-6718-4A16-A042-0C20B84D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311934-16F7-4B06-BE2C-B9DEDA05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FFB953-C1DA-4884-8D0C-B66BA7D60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8C42-1671-4B1B-8D7E-F5043C61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497504-E6AC-4970-A8FC-0E4822F4D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A1969A-988B-4874-BE5A-BEA58FEBC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3C1010-0C98-4289-BB6D-B0EA8182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669891-3539-4FF4-8013-AD584025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F83CED-EC07-41E5-9030-570CB4EE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F97BE9-8650-4A90-9DEB-D7F8D68E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2489FB-CB54-47B5-B486-1320DC9F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B43A33-CCDA-40B5-9CE2-8550786E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C090C1-5C57-4307-BB5A-80C455CE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3A9DB6-A7F0-4119-AD25-9B59E7B4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29E6-716B-4703-8971-621FE36A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DECC47-74B5-49FD-8DB4-A434B69C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728D79-47E4-4B16-AE31-ED3C8A032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9FB76C-6A00-4EE9-A5E0-EC5781435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02AE7F-89FF-47AE-A13B-F715365A6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3FDDCD-A274-4A3B-BEEE-9263C6F1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E1D619-7A01-4382-A798-B584DB5B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0D96FB-F71A-4296-BD79-3316C7C9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246792-B3D2-42CF-AC1D-42A0DD0D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F01EFE-26BE-4521-B612-5E454C2A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513BE2-ED06-42C0-8CC6-99BFD7F6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E278-ED47-4252-B826-8D184383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66CA-0DDB-4AD1-8A69-A9D7D962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F213AC-099F-4889-BC0F-6FB94904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BDA20A-FE83-4B33-8C46-4E4DA71E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29DA05-60E9-48D4-8E05-5D22085A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8765FE-8165-42A8-ADA3-D68508098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5055B9-5A8E-4ADD-B7C3-CDD91B519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CA9FF7-F2DE-41B7-A4C3-4BC813B5F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7DE991-2B5C-4EAD-969E-4192AAF9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CA47DB-54C0-4C64-958E-D7758570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3ED9FA-DE50-4B84-8930-82E9C116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7358B6-2CF9-40A1-8B24-E559A1B2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CEB9-33E7-45C2-8020-82FCB97C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0B4B0F-AE9E-4637-9EF5-EF60B3E2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5AF587-6459-4568-81E1-B78AD292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3A290D-7B8D-42BE-A08B-6BA42B06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7D08F0-14B5-4FC6-AA0E-C76C44CF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9772B9-2306-4986-AF76-76B55A04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84A03A-9823-4C53-9476-46B564307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0A00ED-4AF7-427D-BC04-9F518CA9B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BEB509-567A-4B5D-BE4B-6D0BC1AB9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3E6105-8B77-4CFB-901E-35178B3A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40878D-70D1-4BA0-BBC6-A77CAD37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0355-132E-4B7B-81D8-E92C8EFA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C39D0D-C5C2-44A9-955E-E3B61E58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585BC5-C12E-4CCA-9B3E-8442F07C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5A81D6-2145-49A4-AA31-3F6898F3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1C1D20-15DC-4DE4-BB8A-051D6585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613274-BF0E-4BD0-BF1A-159922BC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445207-1D20-4CE1-940A-F652B130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DE689D-3D46-48CF-91E6-7EC6D15D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2CABB8-E978-4EA5-920B-D887A22E9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19012B-3379-439C-BE06-7BB62BA5E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32424D-4721-46A9-8B15-2F6ED04C3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5B8B-8B78-471F-9014-6FE0C93B2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3B3777-9375-4B40-BED0-8509409D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AA5CE6-BCD4-48D5-A6DF-892517EA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E31967-B869-442C-84E4-48DDE6C9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93519D-316E-4EA0-86B8-9E1B1A67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4534A3-5DC0-4CED-92A2-82FF729D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E4E9AE-9B9C-475B-AF7D-D2147CA4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6C3963-1420-4F0A-8933-E6A694A1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D67327-A1FD-41B5-8D86-41869858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B2D9DE-A002-4B69-9BF6-DFA9C997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AC2FE6-8C9C-4240-8340-9475A31E2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5B15-4EEC-46B5-967D-065EAE6E0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9855DE-2911-47DC-BE27-5062730F3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C4806F-0B45-4BE7-A408-3E4D8E87F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0280D8-2E9E-4C45-BA39-AE5968BE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CB2D34-B229-49E7-AB0C-194F651B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25F6B8-6E84-4970-94F9-94547C14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D7A8EA-E64D-4B6E-A0AE-A4620007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BF0CF6-6A52-4787-B4DA-DC965075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B49BC2-999E-4E22-A373-62BD88AB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FF30A0-3E5A-4945-BD39-F5C391C3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309CEF-417E-4B2E-B625-19ABBF69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E9D1B-EDA9-47E9-B288-EB7772B2B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B899FD-CC48-4C3C-BCB6-E77A8158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D2C839-73C0-441A-9D9C-9A4C1F25D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77F887-FAA8-4B54-B950-690E9B013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85376-715C-4F48-B62E-B6CDCD48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FA816-50FF-46C6-AA98-C576E4C3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29E26-885F-463E-8C35-11D98490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D6172-1CE0-4486-9D04-F34EFA54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4D31-79B0-4E8A-AFD2-187C1F4F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5C2EF-3768-4D8E-8D02-41131B43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8C9CF-603C-4793-B6A7-E250EBB4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B1A00-BB9A-4980-A8AB-7BD8B983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45AD0-BBB9-43B2-B963-C03BF0C1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3D16D-69A1-4E3C-8EDB-09C6EDDF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7EA5D-73CA-4B41-A8F9-4E2EF4041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E780E-BBF1-447E-87C8-D6190E0C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080B8-746E-479D-9D6E-C23C07904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A71CB-8849-4984-B4DE-C5A180E0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8E823-CE5D-485F-9A73-3C34E58C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FBDE-6E58-4D94-8C6D-217F61F8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AA797-3C9C-4EC9-8530-E905103E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360F4-1546-4404-8CE4-671C4591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E2824-DC58-4CBF-B7E1-03F16AFE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3FA7F-8A3E-4203-AEF5-3932294D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595EC-BFA2-473B-A647-CB5E37BA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D1746-ACAB-42E9-AF1F-31D296EA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0DAD3-F40B-444E-8800-FCFECE1A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9813D-C0CB-4D8F-B421-CD579E1AA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95EF8-46A3-49EE-A241-5D83B1B7D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3ABFF-743C-4A04-9572-1486528C9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E984-70A6-4998-946D-87B85147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FFCE8-0924-4DC2-9BFC-93E8173F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ACEE3-76D0-426C-9F9B-D7813C27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10D67-986B-4316-86FF-3439F515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BFC10-7039-4AA1-ACB8-85630F83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B45F5-A605-45DF-91A7-E57FCBE7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C22AB-CE44-4F6C-8D98-FB767DD1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BD835-5BDD-4688-9357-02D1224E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42063-57A8-440A-BAFE-B67563B3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91966-1FD6-4715-87EC-B6DD9662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203B2-67B0-48CF-8DFA-FB8687473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F493-C34B-4BF2-A334-7FB938EE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B9B18-2204-402A-B534-27B52397E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BA5FC-37A7-46BA-9689-23BFF862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0F5CE-8E7A-4E98-9DD1-594B6018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EF73B-623F-4C66-98E2-969B7F32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85D5F-5077-4FFD-9BB1-65969ED1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E0D18-274C-4F8D-8DD4-25397BE0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98CF1-D381-45F9-B89D-0EDB36BC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FC4B7-28C1-472D-8F82-A0804214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FB1C7-ED8C-4024-9515-BD945B62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EE99C-77CC-4C4F-ADD7-7D23CD11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29BA-C60B-49A3-883F-B8C427C5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B57B1-2685-4AC3-90CC-D151D5FF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A1B85-084E-45DA-AB08-E46A7CAA9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C44EF-7147-44A9-8D70-170BC41DD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55238-4435-47FD-917E-7260BEC0C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28A16-09D4-4AA9-B7E6-998B00F4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9A837-2B20-46D7-82D9-B898B58C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737F9-B9EE-4346-BF4D-93BD927C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FD017-55B4-4850-822D-A26E2154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D90B2-9DB2-49D1-A30E-26539BDF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1A0CB-CEA6-45F6-9DFB-E768B938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DFC4-1419-4737-8E99-50C89A40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7D52A-E859-4DA5-979B-34C7D92D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EFB66-CB4B-4A91-98F6-3DD4E67D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20739-4D86-4262-8449-AA9F8950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87DFC-8B6D-4203-92C0-19B713AA2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7C550-7815-47A0-BAC7-CA2F148A5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FF5C1-B4A3-4D5B-B63A-F699A72D8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21D97-EDAC-4F4C-BDE6-2B1017C0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B724E-1559-4FFD-8143-BD9EA6D1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DE34B-472A-424D-A069-E54296C1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59BDD-0DD1-48DC-8515-6505B7C1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28CD-AAF5-42B3-A10A-58956AD9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85ECB-68D7-4000-843E-5A6A6F57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EE1D7-EB0E-4CF0-BDDF-5E6BE03E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44FB7-AD56-4130-AB80-7D26F094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A3751-3EEC-463C-B496-8076FB9F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C7524-828C-4E1C-B76F-293D5BF9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4645A-AE0E-4CD8-9BBA-4F1ABBE71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E6F9E-B326-4337-BC02-7EDC9B01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1DFB3-4978-4034-820A-A6BAC6E7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06F099-3A94-4F12-A28F-702F3810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DD6B91-3834-4903-BA28-ACDE51BD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05ED-A595-465D-8B8D-03B542A6A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113F-2356-45DC-9F4A-E70A94552D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A14D-A8C9-4DCD-B996-AD5E4C700E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895A-5CA5-4992-8723-6BDF1F1310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50D2-48F3-4C76-95D1-79E2BA05BF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EE52-2B52-4869-B47F-03DAA46F26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E8BF-FE18-4771-93C0-A8C5B1F655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3CD2-7AC1-4BBC-A9A9-522A409E1F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2AF0-0CCC-4FCC-A975-EFA54AE201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743B-9EA9-4F2F-92C5-A57B8D6DC4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5CF6-0CC4-4D3D-97BA-6BD577D2C8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359A-FA40-403B-9BF3-067A08DC15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204C-E067-48B1-93EA-02A0AE77F7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520B-9936-4142-A64A-D9F1993B52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BD65-76ED-473A-AE95-51B0F4FBDB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CEB4-2686-4B66-9692-A31047F303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1963-ABCE-469C-B9B1-535BBD566A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BFBC-0526-446D-9A77-C3ABBB546A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6914-9679-4455-BF54-D6AEEF8E72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37BD-AA78-4D8D-A815-295D97D202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063A-CD3A-4708-B88A-3C4C9D3E70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76BB-EF79-4BDD-9F66-F3725CB364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22AF-F3AC-49D6-8B49-13498C2E12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C7F7-3179-430C-9F64-7FEE0A6F37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0976-FD08-48C9-A23D-3E80A05770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A849-CB14-4B14-AC79-A51302F027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81D7-920B-4350-9710-126E430E8B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DF18-C7F4-485B-BC52-9F50840FB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3638-2441-439C-8F5E-84D6A95092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09B5-4C87-449A-9BA0-5D437059DA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46EC-606E-48D9-A8D1-2CF055ADF2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3ED6-3C95-4947-9207-F4A3A81FEA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549D-FE2D-43AC-B2C4-069C5680FA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9D14-4CF0-4904-B533-5414F7A810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9EFC-8B7E-4D4A-AC02-627B3EED9A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5935-51B2-4E99-A06A-D11912E3F7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7E8B-879D-4389-ACCD-D3A5DC588D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99E9-211D-47DD-AA5E-50107FC88F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E9CF-AA2E-4709-9525-C781F9FF2A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6865-37E2-4176-AE40-7CE3751A1F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2124000" y="2781360"/>
            <a:ext cx="501804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28440" y="1057320"/>
            <a:ext cx="9087120" cy="47433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1049400" y="2255760"/>
            <a:ext cx="285840" cy="2937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2857680" y="2247840"/>
            <a:ext cx="285480" cy="2937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4"/>
          <a:stretch/>
        </p:blipFill>
        <p:spPr>
          <a:xfrm>
            <a:off x="4714920" y="2274840"/>
            <a:ext cx="285840" cy="2937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5"/>
          <a:stretch/>
        </p:blipFill>
        <p:spPr>
          <a:xfrm>
            <a:off x="6500880" y="2263680"/>
            <a:ext cx="285840" cy="2937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3" descr=""/>
          <p:cNvPicPr/>
          <p:nvPr/>
        </p:nvPicPr>
        <p:blipFill>
          <a:blip r:embed="rId6"/>
          <a:stretch/>
        </p:blipFill>
        <p:spPr>
          <a:xfrm>
            <a:off x="8429760" y="2247840"/>
            <a:ext cx="285480" cy="293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3" descr=""/>
          <p:cNvPicPr/>
          <p:nvPr/>
        </p:nvPicPr>
        <p:blipFill>
          <a:blip r:embed="rId7"/>
          <a:stretch/>
        </p:blipFill>
        <p:spPr>
          <a:xfrm>
            <a:off x="1033560" y="4446720"/>
            <a:ext cx="285480" cy="2934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3" descr=""/>
          <p:cNvPicPr/>
          <p:nvPr/>
        </p:nvPicPr>
        <p:blipFill>
          <a:blip r:embed="rId8"/>
          <a:stretch/>
        </p:blipFill>
        <p:spPr>
          <a:xfrm>
            <a:off x="2843280" y="4440240"/>
            <a:ext cx="285840" cy="2937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3" descr=""/>
          <p:cNvPicPr/>
          <p:nvPr/>
        </p:nvPicPr>
        <p:blipFill>
          <a:blip r:embed="rId9"/>
          <a:stretch/>
        </p:blipFill>
        <p:spPr>
          <a:xfrm>
            <a:off x="4700520" y="4465800"/>
            <a:ext cx="285840" cy="29340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" descr=""/>
          <p:cNvPicPr/>
          <p:nvPr/>
        </p:nvPicPr>
        <p:blipFill>
          <a:blip r:embed="rId10"/>
          <a:stretch/>
        </p:blipFill>
        <p:spPr>
          <a:xfrm>
            <a:off x="6486480" y="4454640"/>
            <a:ext cx="285840" cy="2934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" descr=""/>
          <p:cNvPicPr/>
          <p:nvPr/>
        </p:nvPicPr>
        <p:blipFill>
          <a:blip r:embed="rId11"/>
          <a:stretch/>
        </p:blipFill>
        <p:spPr>
          <a:xfrm>
            <a:off x="8415360" y="4440240"/>
            <a:ext cx="28584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0" name="Picture 1" descr=""/>
          <p:cNvPicPr/>
          <p:nvPr/>
        </p:nvPicPr>
        <p:blipFill>
          <a:blip r:embed="rId1"/>
          <a:stretch/>
        </p:blipFill>
        <p:spPr>
          <a:xfrm>
            <a:off x="23760" y="1257480"/>
            <a:ext cx="9096480" cy="434340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" descr=""/>
          <p:cNvPicPr/>
          <p:nvPr/>
        </p:nvPicPr>
        <p:blipFill>
          <a:blip r:embed="rId2"/>
          <a:stretch/>
        </p:blipFill>
        <p:spPr>
          <a:xfrm>
            <a:off x="795240" y="1920960"/>
            <a:ext cx="285840" cy="2937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3" descr=""/>
          <p:cNvPicPr/>
          <p:nvPr/>
        </p:nvPicPr>
        <p:blipFill>
          <a:blip r:embed="rId3"/>
          <a:stretch/>
        </p:blipFill>
        <p:spPr>
          <a:xfrm>
            <a:off x="642960" y="1643040"/>
            <a:ext cx="285840" cy="2937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3" descr=""/>
          <p:cNvPicPr/>
          <p:nvPr/>
        </p:nvPicPr>
        <p:blipFill>
          <a:blip r:embed="rId4"/>
          <a:stretch/>
        </p:blipFill>
        <p:spPr>
          <a:xfrm>
            <a:off x="642960" y="2398680"/>
            <a:ext cx="285840" cy="2937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3" descr=""/>
          <p:cNvPicPr/>
          <p:nvPr/>
        </p:nvPicPr>
        <p:blipFill>
          <a:blip r:embed="rId5"/>
          <a:stretch/>
        </p:blipFill>
        <p:spPr>
          <a:xfrm>
            <a:off x="571680" y="3135240"/>
            <a:ext cx="285480" cy="2937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3" descr=""/>
          <p:cNvPicPr/>
          <p:nvPr/>
        </p:nvPicPr>
        <p:blipFill>
          <a:blip r:embed="rId6"/>
          <a:stretch/>
        </p:blipFill>
        <p:spPr>
          <a:xfrm>
            <a:off x="582480" y="3871800"/>
            <a:ext cx="28584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8" name="Picture 1" descr=""/>
          <p:cNvPicPr/>
          <p:nvPr/>
        </p:nvPicPr>
        <p:blipFill>
          <a:blip r:embed="rId1"/>
          <a:stretch/>
        </p:blipFill>
        <p:spPr>
          <a:xfrm>
            <a:off x="162000" y="1905120"/>
            <a:ext cx="8820000" cy="33242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3" descr=""/>
          <p:cNvPicPr/>
          <p:nvPr/>
        </p:nvPicPr>
        <p:blipFill>
          <a:blip r:embed="rId2"/>
          <a:stretch/>
        </p:blipFill>
        <p:spPr>
          <a:xfrm>
            <a:off x="785880" y="2278080"/>
            <a:ext cx="285840" cy="29376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3" descr=""/>
          <p:cNvPicPr/>
          <p:nvPr/>
        </p:nvPicPr>
        <p:blipFill>
          <a:blip r:embed="rId3"/>
          <a:stretch/>
        </p:blipFill>
        <p:spPr>
          <a:xfrm>
            <a:off x="785880" y="2635200"/>
            <a:ext cx="285840" cy="2937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3" descr=""/>
          <p:cNvPicPr/>
          <p:nvPr/>
        </p:nvPicPr>
        <p:blipFill>
          <a:blip r:embed="rId4"/>
          <a:stretch/>
        </p:blipFill>
        <p:spPr>
          <a:xfrm>
            <a:off x="763560" y="3063960"/>
            <a:ext cx="285840" cy="2937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3" descr=""/>
          <p:cNvPicPr/>
          <p:nvPr/>
        </p:nvPicPr>
        <p:blipFill>
          <a:blip r:embed="rId5"/>
          <a:stretch/>
        </p:blipFill>
        <p:spPr>
          <a:xfrm>
            <a:off x="785880" y="3421080"/>
            <a:ext cx="285840" cy="29376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3" descr=""/>
          <p:cNvPicPr/>
          <p:nvPr/>
        </p:nvPicPr>
        <p:blipFill>
          <a:blip r:embed="rId6"/>
          <a:stretch/>
        </p:blipFill>
        <p:spPr>
          <a:xfrm>
            <a:off x="785880" y="3778200"/>
            <a:ext cx="28584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5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0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5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0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4:41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